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D15-C7E2-405F-BC2D-3450D3B9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DAA-E69A-4CF3-BC7E-3F2458E1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CBE-5C64-4C90-8E0E-93669DBB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339-3D75-482A-AD23-609B77D7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3541-DA32-4C7B-AA1F-E95E1185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C757-B7C0-47BB-8352-BEDBE2DA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A627-066A-41DB-B8F8-C5728DE7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D2FB-DE92-48F3-8A61-32873805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B8CA-94A7-46FA-9D38-F05FD6E0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0C43-85EE-407C-8A6A-2A66CA69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336B-8741-4056-9B07-F1D37875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F7E-6071-4286-891C-6C63DA46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F381-7D74-4E8D-8B1A-53EC787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0430-A262-46BE-BC1A-3430E65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4BFD-EFDD-4AE2-9BEF-9802E8C7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7DFA-3B02-455D-BB1F-36983924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F340-2DA0-4339-A9DA-5BCC15E4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530-F47B-41B3-9023-DEA77118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475-01FC-44F5-92D8-17F9B339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A87-4097-4E95-A9F4-1BE15536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A891-6549-4859-88A6-823412FD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1F8-EFA6-4CB4-9E26-6AC6EC6D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5AF-1062-455F-BDAD-5A8E916E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ED2-D78F-4B8E-BCB4-2BE5B9C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9170-6AA9-4365-A198-117B45524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A6E7-BC13-4BC1-B5FE-282AE0AE8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217160"/>
            <a:ext cx="76788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Motivation: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External and Interna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982440"/>
            <a:ext cx="8163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nvironment controls behavio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rinsic motiv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rewards and punish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ise increase likelihood I’ll participa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ticism decrease the likelihoo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nciples of operant conditioning at wor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ffects on behavi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forc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ds to an increase in behav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nish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ds to a decrease in behav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reinforce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reinforcemen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 leads to re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reinforcement: behavior removes pain or anx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: take pill for headac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7" descr="MPj04024460000[1]"/>
          <p:cNvPicPr/>
          <p:nvPr/>
        </p:nvPicPr>
        <p:blipFill>
          <a:blip r:embed="rId1"/>
          <a:stretch/>
        </p:blipFill>
        <p:spPr>
          <a:xfrm>
            <a:off x="5029200" y="2057400"/>
            <a:ext cx="301932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punish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4" name="Picture 7" descr="MCj02317930000[1]"/>
          <p:cNvPicPr/>
          <p:nvPr/>
        </p:nvPicPr>
        <p:blipFill>
          <a:blip r:embed="rId1"/>
          <a:stretch/>
        </p:blipFill>
        <p:spPr>
          <a:xfrm>
            <a:off x="685800" y="1905120"/>
            <a:ext cx="2655720" cy="20192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 leads to unpleasant outcome or takes away something pleasa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of punishment is a decrease in unwanted behav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8" descr="MCj02321000000[1]"/>
          <p:cNvPicPr/>
          <p:nvPr/>
        </p:nvPicPr>
        <p:blipFill>
          <a:blip r:embed="rId2"/>
          <a:stretch/>
        </p:blipFill>
        <p:spPr>
          <a:xfrm>
            <a:off x="4038480" y="1981080"/>
            <a:ext cx="709560" cy="2019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912960" y="1905120"/>
          <a:ext cx="8110440" cy="4190760"/>
        </p:xfrm>
        <a:graphic>
          <a:graphicData uri="http://schemas.openxmlformats.org/drawingml/2006/table">
            <a:tbl>
              <a:tblPr/>
              <a:tblGrid>
                <a:gridCol w="2211120"/>
                <a:gridCol w="2667240"/>
                <a:gridCol w="323208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ke away f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eas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pleas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2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wards and punishme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12960" y="1905120"/>
          <a:ext cx="8110440" cy="4190760"/>
        </p:xfrm>
        <a:graphic>
          <a:graphicData uri="http://schemas.openxmlformats.org/drawingml/2006/table">
            <a:tbl>
              <a:tblPr/>
              <a:tblGrid>
                <a:gridCol w="2211120"/>
                <a:gridCol w="2667240"/>
                <a:gridCol w="323208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ke away f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eas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ositive reinforc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Type II punish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pleas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Type I punish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Negative reinforc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2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blems with punish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e feelings towards person giving punish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ysical or psychological p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calate in severit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tuational: substitute teacher syndro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ss likely to internaliz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ternal versus intern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tter to have intrinsic motiv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have not because you fear punishment or expect reward (extern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because you want to behave in a certain wa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vation from within (intrinsic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yan and Deci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merican Psychologist, 1/2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Determination The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ilitation of intrinsic mot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d in Reeve Chapters 5 &amp; 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t on Reeve p 15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r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982440"/>
            <a:ext cx="86536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omponents of Intrinsic Motiva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onomy: self-gover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etence: well-qualified, cap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k.a self-effica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atedness: support and affirmation from pe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sychological Nee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necessary for survival like biological nee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life worth liv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ople engage in all kinds of activities unrelated to basic nee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trinsic Motiv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ed when no intrinsic reas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pay tax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intrinsic over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seat belt u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first extrinsic: avoid tickets, alarms, nagging child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comes internali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gulatory sty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yan and Deci p. 72 (Reeve p. 15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mot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reg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n’t care about rewards and punish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of contro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y pretend to pay us and we pretend to work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l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yan and Deci tab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04920" y="1905120"/>
          <a:ext cx="8110440" cy="4270320"/>
        </p:xfrm>
        <a:graphic>
          <a:graphicData uri="http://schemas.openxmlformats.org/drawingml/2006/table">
            <a:tbl>
              <a:tblPr/>
              <a:tblGrid>
                <a:gridCol w="2027160"/>
                <a:gridCol w="2028960"/>
                <a:gridCol w="2027160"/>
                <a:gridCol w="2027160"/>
              </a:tblGrid>
              <a:tr h="10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tivati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otiv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rin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in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in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us of contro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ers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leads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valu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pet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i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wards and punish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joym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tisf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2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tinuum of Regul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------------------- Inter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reg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rewards and punish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r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nternal regul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nthesis with self-congruen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reement conforms to belie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 is to get people to accept goals as their ow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ve from compliance to self-regul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iance with medic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l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acilitating Internaliz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ated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re to belong and feel conn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oup projects, share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effica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roves chances of suc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oid early fail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r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sychological nee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determination theory related to psychological nee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rinsic motivation not strongly related to well-be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alth, fame and ima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ll-being not enhanced by achievement of extrinsic goa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yan and Deci, p 75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osure to commercial media prompt a focus on materialism which provides fleeting satisfaction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seek extrinsic rewards to compensate for deficits in fulfilling basic psychological nee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rinsic rewards are insufficient and poor compens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r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lf actualiz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ote autonomy and competen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e natural potential for growt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ilitating human achievement and well-be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social environment to support growth. “Hot hous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me, school, job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wipe dir="l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y do we work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ourselves and our famil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 bil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people enjoy wo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se of purpo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aspect of being with other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5" descr="MPj04091360000[1]"/>
          <p:cNvPicPr/>
          <p:nvPr/>
        </p:nvPicPr>
        <p:blipFill>
          <a:blip r:embed="rId1"/>
          <a:stretch/>
        </p:blipFill>
        <p:spPr>
          <a:xfrm>
            <a:off x="5029200" y="2286000"/>
            <a:ext cx="3429000" cy="27162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joy leisure activities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irement activ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n City, Flor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ts, crafts, performance, social outr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one has role in commun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ty run by volunte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7" descr="MPj04019930000[1]"/>
          <p:cNvPicPr/>
          <p:nvPr/>
        </p:nvPicPr>
        <p:blipFill>
          <a:blip r:embed="rId1"/>
          <a:stretch/>
        </p:blipFill>
        <p:spPr>
          <a:xfrm>
            <a:off x="5081760" y="3000240"/>
            <a:ext cx="3452760" cy="23004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982440"/>
            <a:ext cx="8163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Motivating people to get involved.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3980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pe people will do what is b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out when nee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well-known risk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 we have to mold behav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MCj00787940000[1]"/>
          <p:cNvPicPr/>
          <p:nvPr/>
        </p:nvPicPr>
        <p:blipFill>
          <a:blip r:embed="rId1"/>
          <a:stretch/>
        </p:blipFill>
        <p:spPr>
          <a:xfrm>
            <a:off x="838080" y="2438280"/>
            <a:ext cx="2024280" cy="2997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afer to wear seatbelts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433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known that seatbelts save li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age varies great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1% in Mass before law. Now 76%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1% in Cal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8% in 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ment and enforcement make a dif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5" descr="MCj03052370000[1]"/>
          <p:cNvPicPr/>
          <p:nvPr/>
        </p:nvPicPr>
        <p:blipFill>
          <a:blip r:embed="rId1"/>
          <a:stretch/>
        </p:blipFill>
        <p:spPr>
          <a:xfrm>
            <a:off x="5257800" y="2573280"/>
            <a:ext cx="2743200" cy="21081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entually internalize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38480" y="205740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s extrins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wearing seatbelt might lead to punish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aring reinforced by others and by vehic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t them on as a matter of hab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omes intrins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5" descr="MCj03550390000[1]"/>
          <p:cNvPicPr/>
          <p:nvPr/>
        </p:nvPicPr>
        <p:blipFill>
          <a:blip r:embed="rId1"/>
          <a:stretch/>
        </p:blipFill>
        <p:spPr>
          <a:xfrm>
            <a:off x="914400" y="2573280"/>
            <a:ext cx="2598840" cy="24382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unishment and reinforcement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733560" y="1904760"/>
            <a:ext cx="4647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it or ticket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at of punish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dom chec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 comes with warning buzz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p if you buckle u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forces we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7" descr="MCj03612120000[1]"/>
          <p:cNvPicPr/>
          <p:nvPr/>
        </p:nvPicPr>
        <p:blipFill>
          <a:blip r:embed="rId1"/>
          <a:stretch/>
        </p:blipFill>
        <p:spPr>
          <a:xfrm>
            <a:off x="609480" y="3095640"/>
            <a:ext cx="2737080" cy="10796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veloping skill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76360" y="1904760"/>
            <a:ext cx="5746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ing bass in cor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 to get back to playing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ing to play bass p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join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wards of working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rt coming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s outweigh neg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ugging bass across camp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7" descr="MCj02342530000[1]"/>
          <p:cNvPicPr/>
          <p:nvPr/>
        </p:nvPicPr>
        <p:blipFill>
          <a:blip r:embed="rId1"/>
          <a:stretch/>
        </p:blipFill>
        <p:spPr>
          <a:xfrm>
            <a:off x="1047600" y="2362320"/>
            <a:ext cx="2086200" cy="30477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6:35:33Z</dcterms:created>
  <dc:creator/>
  <dc:description/>
  <dc:language>en-US</dc:language>
  <cp:lastModifiedBy>Bright</cp:lastModifiedBy>
  <dcterms:modified xsi:type="dcterms:W3CDTF">2013-08-22T13:54:12Z</dcterms:modified>
  <cp:revision>8</cp:revision>
  <dc:subject/>
  <dc:title>Intrinsic Motivation</dc:title>
</cp:coreProperties>
</file>